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png" ContentType="image/png"/>
  <Override PartName="/ppt/media/image32.jpeg" ContentType="image/jpeg"/>
  <Override PartName="/ppt/media/image31.jpeg" ContentType="image/jpe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85.png" ContentType="image/png"/>
  <Override PartName="/ppt/media/image54.png" ContentType="image/png"/>
  <Override PartName="/ppt/media/image76.jpeg" ContentType="image/jpeg"/>
  <Override PartName="/ppt/media/image41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95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77.png" ContentType="image/pn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6.jpeg" ContentType="image/jpeg"/>
  <Override PartName="/ppt/media/image69.png" ContentType="image/png"/>
  <Override PartName="/ppt/media/image67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93.jpeg" ContentType="image/jpeg"/>
  <Override PartName="/ppt/media/image91.png" ContentType="image/png"/>
  <Override PartName="/ppt/media/image12.png" ContentType="image/png"/>
  <Override PartName="/ppt/media/image94.jpeg" ContentType="image/jpeg"/>
  <Override PartName="/ppt/media/image74.jpeg" ContentType="image/jpeg"/>
  <Override PartName="/ppt/media/image96.jpeg" ContentType="image/jpeg"/>
  <Override PartName="/ppt/media/image92.jpeg" ContentType="image/jpeg"/>
  <Override PartName="/ppt/media/image49.png" ContentType="image/png"/>
  <Override PartName="/ppt/media/image65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43.jpeg" ContentType="image/jpeg"/>
  <Override PartName="/ppt/media/image80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8.jpeg" ContentType="image/jpeg"/>
  <Override PartName="/ppt/media/image29.jpeg" ContentType="image/jpeg"/>
  <Override PartName="/ppt/media/image52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14C7-9D66-44C6-A3DB-5A31568B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1A5D-2DE6-44E4-8697-34BFA5B5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7AB-88D0-48D7-A052-FA883D39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3F2-833F-4E9E-AE82-27C3AF29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6AD-C76F-4325-A18B-D52DF523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8E6-3C7D-4598-8909-F7EE82A0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BC9-7FF7-4316-8DF8-020C631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A26-84A5-4662-9217-D7C78A32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517-DA30-49C4-9157-896042E3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AA2-52CB-4302-9567-766837F2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A28-99A9-4160-9C26-3F98EFA8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F1C-B35D-4344-B0B0-A86464C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6DC-BCBD-49B1-92B7-22C9B1D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540-CD94-48EE-939D-0553E91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499B-A089-4AAF-BB89-A54A6F67A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4.xml"/><Relationship Id="rId4" Type="http://schemas.openxmlformats.org/officeDocument/2006/relationships/slide" Target="slide50.xml"/><Relationship Id="rId5" Type="http://schemas.openxmlformats.org/officeDocument/2006/relationships/slide" Target="slide66.xml"/><Relationship Id="rId6" Type="http://schemas.openxmlformats.org/officeDocument/2006/relationships/slide" Target="slide82.xml"/><Relationship Id="rId7" Type="http://schemas.openxmlformats.org/officeDocument/2006/relationships/slide" Target="slide9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4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5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www.securitypolicy.co.uk/riskanalysis/scales.jpg&amp;imgrefurl=http://www.securitypolicy.co.uk/riskanalysis/&amp;usg=__jsXAkC0W0tptUyEdO_-w4RO7xCM=&amp;h=537&amp;w=552&amp;sz=25&amp;hl=en&amp;start=6&amp;tbnid=DcrEwh7J7Ow6LM:&amp;tbnh=129&amp;tbnw=133&amp;prev=/images%3Fq%3DAnalysis%26gbv%3D2%26ndsp%3D20%26hl%3Den" TargetMode="External"/><Relationship Id="rId3" Type="http://schemas.openxmlformats.org/officeDocument/2006/relationships/image" Target="../media/image96.jpeg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chemweb.ucc.ie/ABCRF/images/Synthesis3.jpg&amp;imgrefurl=http://chemweb.ucc.ie/ABCRF/synthesis4.htm&amp;usg=__I_P6lsIf4lhy26LkmEi4vdgKKjc=&amp;h=1265&amp;w=600&amp;sz=107&amp;hl=en&amp;start=7&amp;tbnid=LpjBCViLCui88M:&amp;tbnh=150&amp;tbnw=71&amp;prev=/images%3Fq%3Dsynthesis%26gbv%3D2%26hl%3Den" TargetMode="External"/><Relationship Id="rId3" Type="http://schemas.openxmlformats.org/officeDocument/2006/relationships/image" Target="../media/image97.jpe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images.google.co.uk/imgres?imgurl=http://dolphinsoftware.files.wordpress.com/2009/05/evaluation.jpg&amp;imgrefurl=http://dolphinsoftware.wordpress.com/2009/05/21/pricewaterhousecoopers-criteria-for-selecting-an-enterprise-contract-management-solution/&amp;usg=__jl8E-2NlW8cyfC9N6YZ6D6qmh4A=&amp;h=396&amp;w=350&amp;sz=24&amp;hl=en&amp;start=2&amp;tbnid=fQ1Vow7kUnd1PM:&amp;tbnh=124&amp;tbnw=110&amp;prev=/images%3Fq%3Devaluation%26gbv%3D2%26hl%3Den" TargetMode="External"/><Relationship Id="rId3" Type="http://schemas.openxmlformats.org/officeDocument/2006/relationships/image" Target="../media/image98.jpeg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100.xml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99.xml"/><Relationship Id="rId18" Type="http://schemas.openxmlformats.org/officeDocument/2006/relationships/slide" Target="slide105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5.xml"/><Relationship Id="rId13" Type="http://schemas.openxmlformats.org/officeDocument/2006/relationships/slide" Target="slide46.xml"/><Relationship Id="rId14" Type="http://schemas.openxmlformats.org/officeDocument/2006/relationships/slide" Target="slide47.xml"/><Relationship Id="rId15" Type="http://schemas.openxmlformats.org/officeDocument/2006/relationships/slide" Target="slide48.xml"/><Relationship Id="rId16" Type="http://schemas.openxmlformats.org/officeDocument/2006/relationships/slide" Target="slide49.xml"/><Relationship Id="rId17" Type="http://schemas.openxmlformats.org/officeDocument/2006/relationships/slide" Target="slide101.xml"/><Relationship Id="rId1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4.xml"/><Relationship Id="rId6" Type="http://schemas.openxmlformats.org/officeDocument/2006/relationships/slide" Target="slide55.xml"/><Relationship Id="rId7" Type="http://schemas.openxmlformats.org/officeDocument/2006/relationships/slide" Target="slide56.xml"/><Relationship Id="rId8" Type="http://schemas.openxmlformats.org/officeDocument/2006/relationships/slide" Target="slide57.xml"/><Relationship Id="rId9" Type="http://schemas.openxmlformats.org/officeDocument/2006/relationships/slide" Target="slide58.xml"/><Relationship Id="rId10" Type="http://schemas.openxmlformats.org/officeDocument/2006/relationships/slide" Target="slide59.xml"/><Relationship Id="rId11" Type="http://schemas.openxmlformats.org/officeDocument/2006/relationships/slide" Target="slide60.xml"/><Relationship Id="rId12" Type="http://schemas.openxmlformats.org/officeDocument/2006/relationships/slide" Target="slide61.xml"/><Relationship Id="rId13" Type="http://schemas.openxmlformats.org/officeDocument/2006/relationships/slide" Target="slide62.xml"/><Relationship Id="rId14" Type="http://schemas.openxmlformats.org/officeDocument/2006/relationships/slide" Target="slide63.xml"/><Relationship Id="rId15" Type="http://schemas.openxmlformats.org/officeDocument/2006/relationships/slide" Target="slide64.xml"/><Relationship Id="rId16" Type="http://schemas.openxmlformats.org/officeDocument/2006/relationships/slide" Target="slide65.xml"/><Relationship Id="rId17" Type="http://schemas.openxmlformats.org/officeDocument/2006/relationships/slide" Target="slide102.xm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hotoindustrie-verband.de/img/dq/DQ-Tool_Contrast_e.jpg&amp;imgrefurl=http://www.photoindustrie-verband.de/en/archiv/druckparser.php%3Fpars%3Ddq.htm&amp;usg=__H6Wo9aHGLxkhex_S6RzK76VhApU=&amp;h=768&amp;w=1024&amp;sz=103&amp;hl=en&amp;start=1&amp;tbnid=2d6QnocVM6z8-M:&amp;tbnh=113&amp;tbnw=150&amp;prev=/images%3Fq%3Dcontrast%26gbv%3D2%26hl%3Den" TargetMode="External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1.xml"/><Relationship Id="rId7" Type="http://schemas.openxmlformats.org/officeDocument/2006/relationships/slide" Target="slide72.xml"/><Relationship Id="rId8" Type="http://schemas.openxmlformats.org/officeDocument/2006/relationships/slide" Target="slide73.xml"/><Relationship Id="rId9" Type="http://schemas.openxmlformats.org/officeDocument/2006/relationships/slide" Target="slide74.xml"/><Relationship Id="rId10" Type="http://schemas.openxmlformats.org/officeDocument/2006/relationships/slide" Target="slide75.xml"/><Relationship Id="rId11" Type="http://schemas.openxmlformats.org/officeDocument/2006/relationships/slide" Target="slide76.xml"/><Relationship Id="rId12" Type="http://schemas.openxmlformats.org/officeDocument/2006/relationships/slide" Target="slide77.xml"/><Relationship Id="rId13" Type="http://schemas.openxmlformats.org/officeDocument/2006/relationships/slide" Target="slide78.xml"/><Relationship Id="rId14" Type="http://schemas.openxmlformats.org/officeDocument/2006/relationships/slide" Target="slide79.xml"/><Relationship Id="rId15" Type="http://schemas.openxmlformats.org/officeDocument/2006/relationships/slide" Target="slide80.xml"/><Relationship Id="rId16" Type="http://schemas.openxmlformats.org/officeDocument/2006/relationships/slide" Target="slide81.xml"/><Relationship Id="rId17" Type="http://schemas.openxmlformats.org/officeDocument/2006/relationships/slide" Target="slide103.xml"/><Relationship Id="rId1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cademic.brooklyn.cuny.edu/geology/leveson/core/graphics/nyc_mins2/qmarks.gif&amp;imgrefurl=http://academic.brooklyn.cuny.edu/geology/leveson/core/graphics/nyc_mins2/hyp_choose.html&amp;usg=__UB17EsBQ7DCiv-9x6npdrKgpKpg=&amp;h=1000&amp;w=300&amp;sz=5&amp;hl=en&amp;start=2&amp;tbnid=w4NiTouVXYJ22M:&amp;tbnh=149&amp;tbnw=45&amp;prev=/images%3Fq%3Dhypothesis%26gbv%3D2%26hl%3Den" TargetMode="External"/><Relationship Id="rId2" Type="http://schemas.openxmlformats.org/officeDocument/2006/relationships/image" Target="../media/image68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sf.be/images/uploads/Image/ASF%2520en%2520action/organiser_evenement.jpg&amp;imgrefurl=http://www.asf.be/index.php%3Fmodule%3Dhoehelpen%26lang%3Den%26id%3D163&amp;usg=__zmUXBRHPcHq8LfjZGUz45HJ5hRE=&amp;h=1377&amp;w=1916&amp;sz=576&amp;hl=en&amp;start=10&amp;tbnid=AgUl-NjROH_GUM:&amp;tbnh=108&amp;tbnw=150&amp;prev=/images%3Fq%3Dorganise%26gbv%3D2%26hl%3Den" TargetMode="External"/><Relationship Id="rId2" Type="http://schemas.openxmlformats.org/officeDocument/2006/relationships/image" Target="../media/image71.jpe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" Target="slide88.xml"/><Relationship Id="rId8" Type="http://schemas.openxmlformats.org/officeDocument/2006/relationships/slide" Target="slide89.xml"/><Relationship Id="rId9" Type="http://schemas.openxmlformats.org/officeDocument/2006/relationships/slide" Target="slide90.xml"/><Relationship Id="rId10" Type="http://schemas.openxmlformats.org/officeDocument/2006/relationships/slide" Target="slide91.xml"/><Relationship Id="rId11" Type="http://schemas.openxmlformats.org/officeDocument/2006/relationships/slide" Target="slide92.xml"/><Relationship Id="rId12" Type="http://schemas.openxmlformats.org/officeDocument/2006/relationships/slide" Target="slide93.xml"/><Relationship Id="rId13" Type="http://schemas.openxmlformats.org/officeDocument/2006/relationships/slide" Target="slide94.xml"/><Relationship Id="rId14" Type="http://schemas.openxmlformats.org/officeDocument/2006/relationships/slide" Target="slide95.xml"/><Relationship Id="rId15" Type="http://schemas.openxmlformats.org/officeDocument/2006/relationships/slide" Target="slide96.xml"/><Relationship Id="rId16" Type="http://schemas.openxmlformats.org/officeDocument/2006/relationships/slide" Target="slide97.xml"/><Relationship Id="rId17" Type="http://schemas.openxmlformats.org/officeDocument/2006/relationships/slide" Target="slide104.xml"/><Relationship Id="rId18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home1inspectionllc.com/inspect.gif&amp;imgrefurl=http://www.home1inspectionllc.com/process.htm&amp;usg=__W_U9f4DL3nWuTrp55-y5oJvHk_k=&amp;h=360&amp;w=319&amp;sz=49&amp;hl=en&amp;start=1&amp;tbnid=-daobgFzxUiUgM:&amp;tbnh=121&amp;tbnw=107&amp;prev=/images%3Fq%3Dinspect%26gbv%3D2%26hl%3Den" TargetMode="External"/><Relationship Id="rId2" Type="http://schemas.openxmlformats.org/officeDocument/2006/relationships/image" Target="../media/image83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echliberation.com/wp-content/uploads/2009/01/judge.jpg&amp;imgrefurl=http://techliberation.com/2009/01/23/pilot-program-to-improve-patent-litigation/&amp;usg=__NgV3SslmD5YD3P00x8BtfefcZck=&amp;h=300&amp;w=400&amp;sz=44&amp;hl=en&amp;start=2&amp;tbnid=IFBEIja22beKcM:&amp;tbnh=93&amp;tbnw=124&amp;prev=/images%3Fq%3Djudge%26gbv%3D2%26hl%3Den" TargetMode="External"/><Relationship Id="rId2" Type="http://schemas.openxmlformats.org/officeDocument/2006/relationships/image" Target="../media/image84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2" Type="http://schemas.openxmlformats.org/officeDocument/2006/relationships/image" Target="../media/image87.jpeg"/><Relationship Id="rId3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4" Type="http://schemas.openxmlformats.org/officeDocument/2006/relationships/image" Target="../media/image88.jpeg"/><Relationship Id="rId5" Type="http://schemas.openxmlformats.org/officeDocument/2006/relationships/hyperlink" Target="http://images.google.co.uk/imgres?imgurl=http://image.examiner.com/images/blog/wysiwyg/image/Thumbs_Down.gif&amp;imgrefurl=http://www.examiner.com/x-5942-Oklahoma-City-MMORPG-Examiner~y2009m4d11-Internet-subscription-based-on-usage&amp;usg=__DxJJ3w0GE4WB3bCZBhKECQXpTj0=&amp;h=408&amp;w=382&amp;sz=6&amp;hl=en&amp;start=33&amp;tbnid=Vxlnr14qnkLx3M:&amp;tbnh=125&amp;tbnw=117&amp;prev=/images%3Fq%3Drate%2Bthumbs%26gbv%3D2%26ndsp%3D18%26hl%3Den%26sa%3DN%26start%3D18" TargetMode="External"/><Relationship Id="rId6" Type="http://schemas.openxmlformats.org/officeDocument/2006/relationships/image" Target="../media/image89.jpeg"/><Relationship Id="rId7" Type="http://schemas.openxmlformats.org/officeDocument/2006/relationships/slide" Target="slide82.xml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s1.mcm.edu/~awyatt/csc3315/bloom.htm" TargetMode="External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image" Target="../media/image9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>
            <a:hlinkClick r:id="rId1" action="ppaction://hlinksldjump"/>
          </p:cNvPr>
          <p:cNvSpPr/>
          <p:nvPr/>
        </p:nvSpPr>
        <p:spPr>
          <a:xfrm>
            <a:off x="3643200" y="928800"/>
            <a:ext cx="857520" cy="857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>
            <a:hlinkClick r:id="rId2" action="ppaction://hlinksldjump"/>
          </p:cNvPr>
          <p:cNvSpPr/>
          <p:nvPr/>
        </p:nvSpPr>
        <p:spPr>
          <a:xfrm>
            <a:off x="4429080" y="1714680"/>
            <a:ext cx="857160" cy="857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>
            <a:hlinkClick r:id="rId3" action="ppaction://hlinksldjump"/>
          </p:cNvPr>
          <p:cNvSpPr/>
          <p:nvPr/>
        </p:nvSpPr>
        <p:spPr>
          <a:xfrm>
            <a:off x="5286240" y="2571840"/>
            <a:ext cx="857520" cy="857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>
            <a:hlinkClick r:id="rId4" action="ppaction://hlinksldjump"/>
          </p:cNvPr>
          <p:cNvSpPr/>
          <p:nvPr/>
        </p:nvSpPr>
        <p:spPr>
          <a:xfrm>
            <a:off x="6143760" y="3429000"/>
            <a:ext cx="857160" cy="857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>
            <a:hlinkClick r:id="rId5" action="ppaction://hlinksldjump"/>
          </p:cNvPr>
          <p:cNvSpPr/>
          <p:nvPr/>
        </p:nvSpPr>
        <p:spPr>
          <a:xfrm>
            <a:off x="7072200" y="4357800"/>
            <a:ext cx="857520" cy="857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>
            <a:hlinkClick r:id="rId6" action="ppaction://hlinksldjump"/>
          </p:cNvPr>
          <p:cNvSpPr/>
          <p:nvPr/>
        </p:nvSpPr>
        <p:spPr>
          <a:xfrm>
            <a:off x="7858080" y="5143680"/>
            <a:ext cx="857160" cy="8571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857160" y="1071720"/>
            <a:ext cx="28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500120" y="1928880"/>
            <a:ext cx="285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Compreh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071880" y="278604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36432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714920" y="457200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5643720" y="5357880"/>
            <a:ext cx="28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5429160"/>
            <a:ext cx="1357560" cy="1071720"/>
            <a:chOff x="214200" y="5429160"/>
            <a:chExt cx="1357560" cy="1071720"/>
          </a:xfrm>
        </p:grpSpPr>
        <p:sp>
          <p:nvSpPr>
            <p:cNvPr id="61" name="5-Point Star 13"/>
            <p:cNvSpPr/>
            <p:nvPr/>
          </p:nvSpPr>
          <p:spPr>
            <a:xfrm>
              <a:off x="214200" y="5429160"/>
              <a:ext cx="1357560" cy="1071720"/>
            </a:xfrm>
            <a:prstGeom prst="pie">
              <a:avLst/>
            </a:prstGeom>
            <a:solidFill>
              <a:srgbClr val="e6e0ec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500040" y="578628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 </a:t>
              </a:r>
              <a:r>
                <a:rPr b="0" lang="en-GB" sz="1200" spc="-1" strike="noStrike" u="sng">
                  <a:solidFill>
                    <a:srgbClr val="0000ff"/>
                  </a:solidFill>
                  <a:uFillTx/>
                  <a:latin typeface="Arial"/>
                  <a:hlinkClick r:id="rId7" action="ppaction://hlinksldjump"/>
                </a:rPr>
                <a:t>Produc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Lis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708360" y="112536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844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70828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573360"/>
            <a:ext cx="6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08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5300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s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464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n ord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nge method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se factors i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order these concep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put these events in chronological or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rt the cards into an order of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concept and order the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Order.bmp"/>
          <p:cNvPicPr/>
          <p:nvPr/>
        </p:nvPicPr>
        <p:blipFill>
          <a:blip r:embed="rId1"/>
          <a:stretch/>
        </p:blipFill>
        <p:spPr>
          <a:xfrm>
            <a:off x="6659640" y="4076640"/>
            <a:ext cx="247968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50920" y="692280"/>
            <a:ext cx="87138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Comprehen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 out or draw pictures to show a particular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ustrate what you think the main idea w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artoon strip showing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nd perform a play based o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ell the story in your word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picture of some aspect you lik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summary report of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flow chart to illustrate the sequenc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olouring book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403360" cy="20257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7308720" y="3933720"/>
            <a:ext cx="1224000" cy="1008000"/>
            <a:chOff x="7308720" y="3933720"/>
            <a:chExt cx="1224000" cy="1008000"/>
          </a:xfrm>
        </p:grpSpPr>
        <p:sp>
          <p:nvSpPr>
            <p:cNvPr id="579" name="Oval 3"/>
            <p:cNvSpPr/>
            <p:nvPr/>
          </p:nvSpPr>
          <p:spPr>
            <a:xfrm>
              <a:off x="7451640" y="3933720"/>
              <a:ext cx="936720" cy="1008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>
              <a:hlinkClick r:id="rId3" action="ppaction://hlinksldjump"/>
            </p:cNvPr>
            <p:cNvSpPr/>
            <p:nvPr/>
          </p:nvSpPr>
          <p:spPr>
            <a:xfrm>
              <a:off x="7308720" y="414972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ck to Comprehen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79280" y="333360"/>
            <a:ext cx="87138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pplic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model to demonstrate how it will wor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diorama to illustrate an important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scrapbook about the areas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paper-mache map to include relevant information about an eve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collection of photographs to demonstrate a particular poin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puzzle game using the ideas from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lay model of an item in the materia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 a doll in national costum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int a mural using the same material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extbook about... for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market strategy for your product using a known strategy as a mod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152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7308720" y="3789360"/>
            <a:ext cx="863640" cy="857160"/>
            <a:chOff x="7308720" y="3789360"/>
            <a:chExt cx="863640" cy="857160"/>
          </a:xfrm>
        </p:grpSpPr>
        <p:sp>
          <p:nvSpPr>
            <p:cNvPr id="585" name="Oval 3"/>
            <p:cNvSpPr/>
            <p:nvPr/>
          </p:nvSpPr>
          <p:spPr>
            <a:xfrm>
              <a:off x="7308720" y="3789360"/>
              <a:ext cx="857520" cy="857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>
              <a:hlinkClick r:id="rId3" action="ppaction://hlinksldjump"/>
            </p:cNvPr>
            <p:cNvSpPr/>
            <p:nvPr/>
          </p:nvSpPr>
          <p:spPr>
            <a:xfrm>
              <a:off x="7308720" y="4005360"/>
              <a:ext cx="863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9280" y="189000"/>
            <a:ext cx="87138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Analy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questionnaire to gather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commercial to sell a new produc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n investigation to produce information to support a view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low chart to show the critical stag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a graph to illustrate selected informati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jigsaw puzzl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on a play about the study ar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biography of the study perso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report about the area of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 a party. Make all the arrangements and record the steps need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a work of art in terms of form, colour and tex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189000"/>
            <a:ext cx="17589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7451640" y="3213000"/>
            <a:ext cx="1008000" cy="857520"/>
            <a:chOff x="7451640" y="3213000"/>
            <a:chExt cx="1008000" cy="857520"/>
          </a:xfrm>
        </p:grpSpPr>
        <p:sp>
          <p:nvSpPr>
            <p:cNvPr id="591" name="Oval 3"/>
            <p:cNvSpPr/>
            <p:nvPr/>
          </p:nvSpPr>
          <p:spPr>
            <a:xfrm>
              <a:off x="7524720" y="3213000"/>
              <a:ext cx="857160" cy="8575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>
              <a:hlinkClick r:id="rId4" action="ppaction://hlinksldjump"/>
            </p:cNvPr>
            <p:cNvSpPr/>
            <p:nvPr/>
          </p:nvSpPr>
          <p:spPr>
            <a:xfrm>
              <a:off x="7451640" y="3357720"/>
              <a:ext cx="1008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189000"/>
            <a:ext cx="8713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Synthesi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nt a machine to do a specific task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building to house your stud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new product. Give it a name and plan a marketing campaign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bout your feelings in rela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TV show, play, puppet show, role play, song or pantomime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 record, book, or magazine cover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up a new language code and write material suing i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l an ide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se a way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e a rhythm or put new words to a known melody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189000"/>
            <a:ext cx="819000" cy="17301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7740720" y="4437000"/>
            <a:ext cx="857160" cy="857160"/>
            <a:chOff x="7740720" y="4437000"/>
            <a:chExt cx="857160" cy="857160"/>
          </a:xfrm>
        </p:grpSpPr>
        <p:sp>
          <p:nvSpPr>
            <p:cNvPr id="597" name="Oval 3"/>
            <p:cNvSpPr/>
            <p:nvPr/>
          </p:nvSpPr>
          <p:spPr>
            <a:xfrm>
              <a:off x="7740720" y="4437000"/>
              <a:ext cx="857160" cy="85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>
              <a:hlinkClick r:id="rId4" action="ppaction://hlinksldjump"/>
            </p:cNvPr>
            <p:cNvSpPr/>
            <p:nvPr/>
          </p:nvSpPr>
          <p:spPr>
            <a:xfrm>
              <a:off x="7740720" y="4653000"/>
              <a:ext cx="790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50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list of criteria to judge a ... show. Indicate priority and rating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a debate about an issue of special interes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a panel to discuss views, eg "Learning at School.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etter to ... advising on changes needed at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half yearly repo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e a case to present your view abou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61280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7236000" y="4581360"/>
            <a:ext cx="1150920" cy="857520"/>
            <a:chOff x="7236000" y="4581360"/>
            <a:chExt cx="1150920" cy="857520"/>
          </a:xfrm>
        </p:grpSpPr>
        <p:sp>
          <p:nvSpPr>
            <p:cNvPr id="603" name="Oval 3"/>
            <p:cNvSpPr/>
            <p:nvPr/>
          </p:nvSpPr>
          <p:spPr>
            <a:xfrm>
              <a:off x="7380360" y="4581360"/>
              <a:ext cx="857160" cy="857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236000" y="4724280"/>
              <a:ext cx="115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turn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Knowledge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 after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as it th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name the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what happened at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spoke to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tell why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d the meaning of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...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is true or false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Comprehens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in your own words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write a brief outline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o you think could of happened next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do you think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as the main idea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as the key character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differences exist betwee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n example of what you mean...?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ovide a definition for...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24720" y="6078600"/>
            <a:ext cx="161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 Application Question 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know another instance whe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ld this have happened i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group by characteristics such as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factors would you change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apply the method used to some experience of your own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questions would you ask o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information given, can you develop a set of instructions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uld this information be useful if you had a ...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Analy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events could have happene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... happened, what might the ending have been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was this similar to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underlying theme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do you see as other possible outcomes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y did ... changes occur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compare your ... with that presented i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explain what must have happened wh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is ... similar to 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are some of the problems of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distinguish between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ere some of the motives behind...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turning point in the game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was the problem with...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Synthesis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sign a ... to 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not compose a song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see a possible solution to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you had access to all resources how would you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y don't you devise your own way to deal with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happen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any ways can you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create new and unusual uses for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write a new recipe for a tasty dish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velop a proposal which would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or copy out (a passage or remark by anothe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eat a passage or remark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hrase would you quote from Barack Obama’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peat what the Prime Minister has just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y out the words of the council lea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back to me what I hav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 and then quote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hey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Quote.jpg"/>
          <p:cNvPicPr/>
          <p:nvPr/>
        </p:nvPicPr>
        <p:blipFill>
          <a:blip r:embed="rId1"/>
          <a:stretch/>
        </p:blipFill>
        <p:spPr>
          <a:xfrm>
            <a:off x="6429240" y="5072040"/>
            <a:ext cx="2595600" cy="163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ic Evaluation Question 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s there a better solution to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udge the value of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defend your position about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think ... is a good or a bad thing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have handled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changes to ... would you recommend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you believe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you a ... person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feel if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ffective are...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 you think about...?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12000" y="60786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as already known; know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rds do you recognise from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allows you to recognise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 a picture containing all the words you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o you recognise this piece of mus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Recognise.gif"/>
          <p:cNvPicPr/>
          <p:nvPr/>
        </p:nvPicPr>
        <p:blipFill>
          <a:blip r:embed="rId1"/>
          <a:stretch/>
        </p:blipFill>
        <p:spPr>
          <a:xfrm>
            <a:off x="6429240" y="4714920"/>
            <a:ext cx="2459160" cy="186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: recall knowledge from memory; have a re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pop quiz from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can tell us what we did last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did we say power lies in politi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have we been studying this ter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recall your earliest memory of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ecall.bmp"/>
          <p:cNvPicPr/>
          <p:nvPr/>
        </p:nvPicPr>
        <p:blipFill>
          <a:blip r:embed="rId1"/>
          <a:stretch/>
        </p:blipFill>
        <p:spPr>
          <a:xfrm>
            <a:off x="7215120" y="4000680"/>
            <a:ext cx="1793880" cy="2725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 or do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atch what I do, then cop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en to what I say, then repe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everything your partner does with a 5 second 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d we just h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peat that excellent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epeat.bmp"/>
          <p:cNvPicPr/>
          <p:nvPr/>
        </p:nvPicPr>
        <p:blipFill>
          <a:blip r:embed="rId1"/>
          <a:stretch/>
        </p:blipFill>
        <p:spPr>
          <a:xfrm>
            <a:off x="6643800" y="4357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 a copy or representation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reate in a different medium o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roduce the model in simple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raw exactly what I have sa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vey the exact meaning of this in a different me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trace the m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ermanent record of your piece of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Reproduce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ate again; to state differently; to re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what Student A has said and put it in your ow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you say that different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ay that aga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say that more simp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make that understandable to a Year 6 stu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state.jpg"/>
          <p:cNvPicPr/>
          <p:nvPr/>
        </p:nvPicPr>
        <p:blipFill>
          <a:blip r:embed="rId1"/>
          <a:stretch/>
        </p:blipFill>
        <p:spPr>
          <a:xfrm>
            <a:off x="6500880" y="4857840"/>
            <a:ext cx="2432160" cy="1814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inue to have; keep possess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 over this until it sticks in your mind for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ould you ensure you remember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 the mnemonic to retain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acronym allowing you to retain the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Retain.jpg"/>
          <p:cNvPicPr/>
          <p:nvPr/>
        </p:nvPicPr>
        <p:blipFill>
          <a:blip r:embed="rId1"/>
          <a:stretch/>
        </p:blipFill>
        <p:spPr>
          <a:xfrm>
            <a:off x="7000920" y="4357800"/>
            <a:ext cx="2000160" cy="2500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understanding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bility to un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4000" y="3357720"/>
            <a:ext cx="882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haracte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lassify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scribe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isc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plain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Exp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den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Illu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og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ort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Compreh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Comprehens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racte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features of a democra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something ‘fair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haracterise ‘Britishness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distinctive character of an ethical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characterise 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7720" indent="-567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iz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yopool.com/images/GUCAU0484-2.jpg"/>
          <p:cNvPicPr/>
          <p:nvPr/>
        </p:nvPicPr>
        <p:blipFill>
          <a:blip r:embed="rId1"/>
          <a:stretch/>
        </p:blipFill>
        <p:spPr>
          <a:xfrm>
            <a:off x="7643880" y="535788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information and skills acquired through experience 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3645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rra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f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Descri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Memo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Or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Qu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Recogn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Rec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epe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eprodu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t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Knowled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Knowled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dentify by or divide into classes; to catego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 the cards according to the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which features are those of an autoc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on categories and then classify the group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would you classify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lassifications could you use for th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53400" indent="-65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http://www.education.vic.gov.au/images/content/studentlearning/l3classify2.jpg"/>
          <p:cNvPicPr/>
          <p:nvPr/>
        </p:nvPicPr>
        <p:blipFill>
          <a:blip r:embed="rId1"/>
          <a:stretch/>
        </p:blipFill>
        <p:spPr>
          <a:xfrm>
            <a:off x="7500960" y="5143680"/>
            <a:ext cx="1442880" cy="1552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finish making or do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word 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ish the 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finish this spee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is diagram need to be comple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thing you think will complete the mod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http://www.bmlbss.com/imagelibrary/Help_Jigsaw.jpg"/>
          <p:cNvPicPr/>
          <p:nvPr/>
        </p:nvPicPr>
        <p:blipFill>
          <a:blip r:embed="rId1"/>
          <a:stretch/>
        </p:blipFill>
        <p:spPr>
          <a:xfrm>
            <a:off x="7429680" y="5000760"/>
            <a:ext cx="1585800" cy="1581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chain of events leading up to the G20 pro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describe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give a detailed account of the picture i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citizenship for a Year 6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your own ident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http://farm1.static.flickr.com/117/260004685_8d78d77db0.jpg"/>
          <p:cNvPicPr/>
          <p:nvPr/>
        </p:nvPicPr>
        <p:blipFill>
          <a:blip r:embed="rId1"/>
          <a:stretch/>
        </p:blipFill>
        <p:spPr>
          <a:xfrm>
            <a:off x="7143840" y="5072040"/>
            <a:ext cx="1825560" cy="1592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about so as to reach a dec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lk or write about (a topic) in d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pictur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 their ever be zero crime? Discu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play showing parliamentary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cuss your ranking of the cards until you reach a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in threes the key points we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7520" indent="-58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uccessfu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http://farm2.static.flickr.com/1388/1041686914_90e500471e.jpg"/>
          <p:cNvPicPr/>
          <p:nvPr/>
        </p:nvPicPr>
        <p:blipFill>
          <a:blip r:embed="rId1"/>
          <a:stretch/>
        </p:blipFill>
        <p:spPr>
          <a:xfrm>
            <a:off x="7397640" y="5516640"/>
            <a:ext cx="1746360" cy="116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tab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40080" indent="-640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 show to be true or certain by determining the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establish what we already know about this 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establish what your partner knows about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ight we establish the truth in this ca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ere is the issue – you must determine the facts in order to establish what is tr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the facts you would use to establis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40080" indent="-64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tain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http://www.archives.gov.on.ca/english/on-line-exhibits/posters/pics/16145_re_establish_770.jpg"/>
          <p:cNvPicPr/>
          <p:nvPr/>
        </p:nvPicPr>
        <p:blipFill>
          <a:blip r:embed="rId1"/>
          <a:stretch/>
        </p:blipFill>
        <p:spPr>
          <a:xfrm>
            <a:off x="7799400" y="4870440"/>
            <a:ext cx="1344600" cy="19875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ke clear by giving a detailed descri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 a reason or justification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you show the difference between this and t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lain why you think th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explanations could their be for this pictu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n you give a reason for your answ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ain the history of the 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http://atomiq.org/archives/guerilla_gorilla.gif"/>
          <p:cNvPicPr/>
          <p:nvPr/>
        </p:nvPicPr>
        <p:blipFill>
          <a:blip r:embed="rId1"/>
          <a:stretch/>
        </p:blipFill>
        <p:spPr>
          <a:xfrm>
            <a:off x="6429240" y="4857840"/>
            <a:ext cx="241308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convey (a thought or feeling) in words or by gestures and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your partner how that made you f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paragraph expressing your opinion on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the film make you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e image make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your thoughts through m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mrtoys.com/lionel/pics/Lionel-The-Polar-Express-6-31960.jpg"/>
          <p:cNvPicPr/>
          <p:nvPr/>
        </p:nvPicPr>
        <p:blipFill>
          <a:blip r:embed="rId1"/>
          <a:srcRect l="0" t="0" r="0" b="17297"/>
          <a:stretch/>
        </p:blipFill>
        <p:spPr>
          <a:xfrm>
            <a:off x="7215120" y="5715000"/>
            <a:ext cx="1784520" cy="100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tablish the identity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cognize or select b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words linked to poli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riteria would you give a Year 8 to help them identify the fa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words most appropriate to persuasiv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identify the tone of this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the legal ter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http://heystupid.files.wordpress.com/2009/04/guess-who.jpg"/>
          <p:cNvPicPr/>
          <p:nvPr/>
        </p:nvPicPr>
        <p:blipFill>
          <a:blip r:embed="rId1"/>
          <a:stretch/>
        </p:blipFill>
        <p:spPr>
          <a:xfrm>
            <a:off x="6643800" y="5286240"/>
            <a:ext cx="2317680" cy="1479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llu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clear by using examples, chart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illustrate this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llustrate this idea using physical thea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examples, charts and/or graphs to make the information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me an example of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what you m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http://static.guim.co.uk/sys-images/Guardian/Pix/arts/2002/09/30/128rolfdrawing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og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identify as already known; know a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ircle what you already k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dentify the elements we covered last les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bit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hat did you already know about today’s less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many of these faces do you recogni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www.optp.com/images/productimages/8661_medium.jpg"/>
          <p:cNvPicPr/>
          <p:nvPr/>
        </p:nvPicPr>
        <p:blipFill>
          <a:blip r:embed="rId1"/>
          <a:stretch/>
        </p:blipFill>
        <p:spPr>
          <a:xfrm>
            <a:off x="7000920" y="485784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ut in a particular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nge these policies from most to least pop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t these events in order of when the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) What order do these elements of a court case go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) Arrange the cards into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rt the voting reform acts histo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rrange.jpg"/>
          <p:cNvPicPr/>
          <p:nvPr/>
        </p:nvPicPr>
        <p:blipFill>
          <a:blip r:embed="rId1"/>
          <a:stretch/>
        </p:blipFill>
        <p:spPr>
          <a:xfrm>
            <a:off x="6300720" y="4581360"/>
            <a:ext cx="2533680" cy="2025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spoken or written account of some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vey information about an event or si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article and then report back to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report what you did for hom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did for your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duce a news report about human rights ab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happened? What did you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http://www.oneroastchicken.com/images/special%20report1.jpg"/>
          <p:cNvPicPr/>
          <p:nvPr/>
        </p:nvPicPr>
        <p:blipFill>
          <a:blip r:embed="rId1"/>
          <a:stretch/>
        </p:blipFill>
        <p:spPr>
          <a:xfrm>
            <a:off x="7286760" y="4500720"/>
            <a:ext cx="1747800" cy="2253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give an account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, when, where, who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How did you get 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you tell us how your grouped worked togeth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elate to your partner your experiences in the lesson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duce a piece of work relating you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earning on the topic to a newcom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o the sch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0480" indent="-600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www.pinknews.co.uk/images/relate.jpg"/>
          <p:cNvPicPr/>
          <p:nvPr/>
        </p:nvPicPr>
        <p:blipFill>
          <a:blip r:embed="rId1"/>
          <a:stretch/>
        </p:blipFill>
        <p:spPr>
          <a:xfrm>
            <a:off x="7072200" y="45720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 in grou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ou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separate from a mixe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 the card 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rt the causes from the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rt the ideas into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ere should the factor group – into which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place this into the Venn diagr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www.woodentoystore.co.uk/images/51280%20Sort%20&amp;%20Count.jpg"/>
          <p:cNvPicPr/>
          <p:nvPr/>
        </p:nvPicPr>
        <p:blipFill>
          <a:blip r:embed="rId1"/>
          <a:stretch/>
        </p:blipFill>
        <p:spPr>
          <a:xfrm>
            <a:off x="7413480" y="5214960"/>
            <a:ext cx="1730520" cy="1384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press the sense of (words or text) in another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nslate in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convert or be converted into another form or 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nslate the concept into a piece of d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lay pictionary with you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ke a list of all you have lear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day then translate this into 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draw the artic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urn today’s learning into a sh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snappy ch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www.squidsquid.com/images/squid_translate.png"/>
          <p:cNvPicPr/>
          <p:nvPr/>
        </p:nvPicPr>
        <p:blipFill>
          <a:blip r:embed="rId1"/>
          <a:stretch/>
        </p:blipFill>
        <p:spPr>
          <a:xfrm>
            <a:off x="4932360" y="3213000"/>
            <a:ext cx="3889440" cy="3489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>
            <a:hlinkClick r:id="rId2" action="ppaction://hlinksldjump"/>
          </p:cNvPr>
          <p:cNvSpPr/>
          <p:nvPr/>
        </p:nvSpPr>
        <p:spPr>
          <a:xfrm>
            <a:off x="6804000" y="2858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-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action of apply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practical use or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342900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alc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ho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Demon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rama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mplo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Impl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Interpr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Ope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Pract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ole-Pl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Sket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ol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Su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ppl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pplic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ng into operation o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y your learning to this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what we have done today to negotiate a controversial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apply that idea to this inst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me how you would apply your reasoning to a disagreement between police and prot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use your learning to answer th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beauty-advices.com/wp-content/uploads/2007/08/apply-mineral-foundation.jpg"/>
          <p:cNvPicPr/>
          <p:nvPr/>
        </p:nvPicPr>
        <p:blipFill>
          <a:blip r:embed="rId1"/>
          <a:stretch/>
        </p:blipFill>
        <p:spPr>
          <a:xfrm>
            <a:off x="7286760" y="4857840"/>
            <a:ext cx="1682640" cy="183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lc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determine (mathematic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What percentage of people voted for the Green Pa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lculate the number of protestors in the crow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lose to the water supply was the oil refinery loc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alculate the trend rate of growth in the econom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more people are unemployed this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www.iflmanagement.co.uk/images/calculate-flip.jpg"/>
          <p:cNvPicPr/>
          <p:nvPr/>
        </p:nvPicPr>
        <p:blipFill>
          <a:blip r:embed="rId1"/>
          <a:stretch/>
        </p:blipFill>
        <p:spPr>
          <a:xfrm>
            <a:off x="7072200" y="4786200"/>
            <a:ext cx="1819440" cy="1940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ick out as being the best of two or more alternatives.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de on a course of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ption would be the best for the judge to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oose the most appropriate sentence for the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urse would you 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the dilemma, make a list of possible responses in your group and then choose th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ou think is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ill you approach this projec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der to meet the success crite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://www.dcnr.state.pa.us/stateparks/hike/hike_images/hike_choose.gif"/>
          <p:cNvPicPr/>
          <p:nvPr/>
        </p:nvPicPr>
        <p:blipFill>
          <a:blip r:embed="rId1"/>
          <a:stretch/>
        </p:blipFill>
        <p:spPr>
          <a:xfrm>
            <a:off x="5786280" y="4621320"/>
            <a:ext cx="2984760" cy="2043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nst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learly show that (something) exists or is tru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practical exhibition and explanation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nstrate that gravity is a cons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emonstrate to the class that you are righ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how that tougher sentencing is good for socie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us through drama how global warming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demonstrate that you exi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upload.wikimedia.org/wikipedia/commons/6/68/London_anti-war_protest_banners.jpg"/>
          <p:cNvPicPr/>
          <p:nvPr/>
        </p:nvPicPr>
        <p:blipFill>
          <a:blip r:embed="rId1"/>
          <a:stretch/>
        </p:blipFill>
        <p:spPr>
          <a:xfrm>
            <a:off x="7500960" y="4714920"/>
            <a:ext cx="1519200" cy="20239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ma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esent as a play (as dra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Dramatise the flow of wealth through the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drama to show how sustainable development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ourt transcript to present a play showing wha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present the interplay of pow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hority and oppression through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n the newspaper headline into a silent mov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http://www.monksparkschool.org.uk/_files/images/years/news_events/rewards_tr_79_feb_07_001.jpg"/>
          <p:cNvPicPr/>
          <p:nvPr/>
        </p:nvPicPr>
        <p:blipFill>
          <a:blip r:embed="rId1"/>
          <a:stretch/>
        </p:blipFill>
        <p:spPr>
          <a:xfrm>
            <a:off x="7215120" y="4357800"/>
            <a:ext cx="1768680" cy="2359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130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 or describe the exact nature or scop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 the meaning of (a word or phr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definition of civil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would you define ‘justic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meaning of responsibi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o the limits of government power f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sustainability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efine.jpg"/>
          <p:cNvPicPr/>
          <p:nvPr/>
        </p:nvPicPr>
        <p:blipFill>
          <a:blip r:embed="rId1"/>
          <a:stretch/>
        </p:blipFill>
        <p:spPr>
          <a:xfrm>
            <a:off x="6804000" y="4749840"/>
            <a:ext cx="2212920" cy="1994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mpl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us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Can you employ that same reasoning on this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Use the formula to answer the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employ your rule in unusual sit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use of the information to solv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ior knowledge and skills do you think 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employ in today’s less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http://www.desmondgv.com/about/images/employ.gif"/>
          <p:cNvPicPr/>
          <p:nvPr/>
        </p:nvPicPr>
        <p:blipFill>
          <a:blip r:embed="rId1"/>
          <a:stretch/>
        </p:blipFill>
        <p:spPr>
          <a:xfrm>
            <a:off x="7286760" y="4962600"/>
            <a:ext cx="1760400" cy="1895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p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t into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ement the changes to you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implement these ide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you have to do to put these changes into eff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should the council implement its new education poli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re-write your essay with these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http://www.globalstudio.co.uk/images/content_implement.jpg"/>
          <p:cNvPicPr/>
          <p:nvPr/>
        </p:nvPicPr>
        <p:blipFill>
          <a:blip r:embed="rId1"/>
          <a:stretch/>
        </p:blipFill>
        <p:spPr>
          <a:xfrm>
            <a:off x="7215120" y="5264280"/>
            <a:ext cx="1790640" cy="15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1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lain the meaning of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nderstand as having a particular meaning or signific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erform (a creative work) in a way that conveys one’s understandin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creator’s ide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your understanding of the story by interpreting it cre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interpret ‘change’ and ‘continuity’ to an ali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interpret this diagram of the UN for a Year 7 aud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rite an article interpreting the convention for a populist read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yboard an advert that will allow viewers to understand the r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http://www.uwsp.edu/cnr/etf/Interpret%20reader.jpg"/>
          <p:cNvPicPr/>
          <p:nvPr/>
        </p:nvPicPr>
        <p:blipFill>
          <a:blip r:embed="rId1"/>
          <a:stretch/>
        </p:blipFill>
        <p:spPr>
          <a:xfrm>
            <a:off x="7372440" y="4929120"/>
            <a:ext cx="1771560" cy="19288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e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trol the functioning of (a machine or proces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with reference to an organization) man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ow me how you operate the dr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operate the dr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nage the time your group spends on each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a minister have to operate in order to get a private member’s bill through parlia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would an effective UN Secretary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? How would they oper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http://www.shohola.com/museum/Welcome%20to%20the%20Shohola%20Museum%20of%20Communications%20and%20Technology_files/MCommTechArmyTelephone.jpg"/>
          <p:cNvPicPr/>
          <p:nvPr/>
        </p:nvPicPr>
        <p:blipFill>
          <a:blip r:embed="rId1"/>
          <a:stretch/>
        </p:blipFill>
        <p:spPr>
          <a:xfrm>
            <a:off x="6929280" y="514368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, accomplish, or fulfil (an action, task, or functio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an overhead kick from the edge of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erform one of the pieces of oratory based on the success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arry out a cross-exa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ccomplish a successful defence of you climate change bi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your group show us how ministers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http://therealsouthkorea.files.wordpress.com/2008/08/drummers-perform-during-the-opening-ceremony-for-the-2008-beijing-summer-olympics.jpg"/>
          <p:cNvPicPr/>
          <p:nvPr/>
        </p:nvPicPr>
        <p:blipFill>
          <a:blip r:embed="rId1"/>
          <a:stretch/>
        </p:blipFill>
        <p:spPr>
          <a:xfrm>
            <a:off x="7215120" y="5572080"/>
            <a:ext cx="1698840" cy="11318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form (an activity) or exercise (a skill) repeatedly in order t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 or maintain proficiency in i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carry out or perform (an activity or custom) habitually or regula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se that until you can do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ad a newspap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ry day until it’s a ha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ercise your reasoning daily in order to improve your arg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eep practising your speeches ready for the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will be discussing again today so you can practise 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as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http://www.radenterprises.co.uk/images/Practise-Skirt-Lavender.jpg"/>
          <p:cNvPicPr/>
          <p:nvPr/>
        </p:nvPicPr>
        <p:blipFill>
          <a:blip r:embed="rId1"/>
          <a:stretch/>
        </p:blipFill>
        <p:spPr>
          <a:xfrm>
            <a:off x="7715160" y="4857840"/>
            <a:ext cx="128916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le-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u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the acting out of a particular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character cards to hot-seat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rotest letter in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act out the concept as a gro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oday we are going to do a mock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 speech that Kofi Annan might give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www.moorestown.com/paragraph_images/1081.jpg"/>
          <p:cNvPicPr/>
          <p:nvPr/>
        </p:nvPicPr>
        <p:blipFill>
          <a:blip r:embed="rId1"/>
          <a:stretch/>
        </p:blipFill>
        <p:spPr>
          <a:xfrm>
            <a:off x="7643880" y="4714920"/>
            <a:ext cx="1338120" cy="203508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ke a sketch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ive a brief account or general outlin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sketch the main features of the criminal justice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ke a sketch of how the economy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a brief account of how your group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give a general outline of your course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iefly, what is parliament and how does it fun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http://www.drawmyface.co.uk/images/caricatures/simon-cowell-sketch.jpg"/>
          <p:cNvPicPr/>
          <p:nvPr/>
        </p:nvPicPr>
        <p:blipFill>
          <a:blip r:embed="rId1"/>
          <a:stretch/>
        </p:blipFill>
        <p:spPr>
          <a:xfrm>
            <a:off x="7313760" y="4384800"/>
            <a:ext cx="1619280" cy="2330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find an answer to, explanation for, or way of dealing with (a proble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myste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Here is your problem, you have 30 minutes to find a solution within the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meters I have set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have solved the problem of hyperinflation in Weimar German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find an answer to the problem of MPs expense claim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 the surface this appears a mystery – what explanation can you find in today’s lesson to solve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famine is the problem, what is the solu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http://collateraldamage.files.wordpress.com/2007/12/rubikscube.jpg"/>
          <p:cNvPicPr/>
          <p:nvPr/>
        </p:nvPicPr>
        <p:blipFill>
          <a:blip r:embed="rId1"/>
          <a:stretch/>
        </p:blipFill>
        <p:spPr>
          <a:xfrm>
            <a:off x="6929280" y="4714920"/>
            <a:ext cx="199872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put forward fo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ggest an alternative way of electing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ut forward some ideas in you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suggest a way to improve our learning as a cl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alter the situation in Bur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changing the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http://ksjtracker.mit.edu/wp-content/uploads/2009/04/suggestion_box1.jpg"/>
          <p:cNvPicPr/>
          <p:nvPr/>
        </p:nvPicPr>
        <p:blipFill>
          <a:blip r:embed="rId1"/>
          <a:stretch/>
        </p:blipFill>
        <p:spPr>
          <a:xfrm>
            <a:off x="7364520" y="4929120"/>
            <a:ext cx="1779480" cy="1749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c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detailed account in wor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workings of loc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process of formal deb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describe presti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a detailed written account of the school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speech detailing your active citizenshi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escribe.jpg"/>
          <p:cNvPicPr/>
          <p:nvPr/>
        </p:nvPicPr>
        <p:blipFill>
          <a:blip r:embed="rId1"/>
          <a:stretch/>
        </p:blipFill>
        <p:spPr>
          <a:xfrm>
            <a:off x="7236000" y="4457880"/>
            <a:ext cx="1714320" cy="2400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360" y="17002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 -    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detailed examination of the elements or structure of somet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the separation of something into its constituent el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50920" y="371628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naly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ategoriz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omp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fferent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Discrimin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Distingu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Explo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Investig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Ques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Analy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Analy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examine in detail the elements or structur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riteria are used to determine a story’s position in the newspaper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is political power distributed in Englan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in detail the structure of the UDH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nalyse the wording of Barack Obama’s opening paragraph in his inauguration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r produce an analysis of the constraints on private individuals wishing to add a loft conversion to their terrace hou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jdo0856l"/>
          <p:cNvPicPr/>
          <p:nvPr/>
        </p:nvPicPr>
        <p:blipFill>
          <a:blip r:embed="rId1"/>
          <a:stretch/>
        </p:blipFill>
        <p:spPr>
          <a:xfrm>
            <a:off x="6948360" y="4941720"/>
            <a:ext cx="2016360" cy="1791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assess the quality or natur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ss the quality of your work in light of the success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assessment would you make of the speaker’s argu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offer us an appraisal of your partner’s strengths and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knesses during the tas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v)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f what quality is this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useful are these figures to us for helping to explain the incre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unemploy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BF627-appraise"/>
          <p:cNvPicPr/>
          <p:nvPr/>
        </p:nvPicPr>
        <p:blipFill>
          <a:blip r:embed="rId1"/>
          <a:stretch/>
        </p:blipFill>
        <p:spPr>
          <a:xfrm>
            <a:off x="7667640" y="5589720"/>
            <a:ext cx="1219320" cy="1123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tego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ce in a particular category; classif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 the quotes and then classify them bas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hetorical devices they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tegorize the MP’s voting records for the cou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your reasoning for placing it in that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lassify these items using the continuum from private to publ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classify power sharing in the context of democratic process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THIN%20set%20of%20drawers%20EDITED"/>
          <p:cNvPicPr/>
          <p:nvPr/>
        </p:nvPicPr>
        <p:blipFill>
          <a:blip r:embed="rId1"/>
          <a:stretch/>
        </p:blipFill>
        <p:spPr>
          <a:xfrm>
            <a:off x="8028000" y="2421000"/>
            <a:ext cx="974880" cy="43210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ofte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/with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estimate, measure, or note the similarity o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similarity betw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are t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point out or describe the resemblances of (something)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re direct and representative democ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these two images compa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similarities are there between monetary and fiscal poli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do rights differ from responsibil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duce a split-screen image showing a comparison of justice and fairn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spot_the_difference"/>
          <p:cNvPicPr/>
          <p:nvPr/>
        </p:nvPicPr>
        <p:blipFill>
          <a:blip r:embed="rId1"/>
          <a:stretch/>
        </p:blipFill>
        <p:spPr>
          <a:xfrm>
            <a:off x="6732720" y="5445000"/>
            <a:ext cx="2162160" cy="11937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are so as to emphasize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highlight the differences between autocracy and democrac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are and contrast the perceptions of the manager and his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you describe the contrast 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raw a picture emphasising the differences between trust and loyal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es scientific thought contrast with religious though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7" descr="DQ-Tool_Contrast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305080" cy="1737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>
            <a:hlinkClick r:id="rId3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fferenti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 or identify as different; distingui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ifferentiate between fact and opinion in the arti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fferentiate the speeches according to the mark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riteria do we need in order to differentiate these manifesto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dentify the inconsistencies within the evidence – what parts are different from the r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of these does not fit and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differentiate-yourself-from-the-crowd"/>
          <p:cNvPicPr/>
          <p:nvPr/>
        </p:nvPicPr>
        <p:blipFill>
          <a:blip r:embed="rId1"/>
          <a:stretch/>
        </p:blipFill>
        <p:spPr>
          <a:xfrm>
            <a:off x="7451640" y="5516640"/>
            <a:ext cx="1473120" cy="11779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cognize a dis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to us why there is a distinction between right and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ich of these is an example of civil la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good, which b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discriminate when faced with all this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are the key words in the qu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discriminate"/>
          <p:cNvPicPr/>
          <p:nvPr/>
        </p:nvPicPr>
        <p:blipFill>
          <a:blip r:embed="rId1"/>
          <a:stretch/>
        </p:blipFill>
        <p:spPr>
          <a:xfrm>
            <a:off x="7524720" y="530064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cognize, show, or treat as diffe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nage to discern (something barely percept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istinguishes a liberal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ifferences can you distinguish between the two pieces of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 we need to look for when distinguishing a civil case from a criminal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 the problems inherent in thi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ern the most appropriate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nashville"/>
          <p:cNvPicPr/>
          <p:nvPr/>
        </p:nvPicPr>
        <p:blipFill>
          <a:blip r:embed="rId1"/>
          <a:stretch/>
        </p:blipFill>
        <p:spPr>
          <a:xfrm>
            <a:off x="7093080" y="5589720"/>
            <a:ext cx="1873080" cy="10634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pect closely to determine the nature or condition of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est the knowledge or proficiency o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amine the video bearing in mind the criteria we have dev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ine the different media to determine their relevance to our tas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would you look for when examining whether this statement is factually correc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 is Britain’s political system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nature of human rights dis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examine"/>
          <p:cNvPicPr/>
          <p:nvPr/>
        </p:nvPicPr>
        <p:blipFill>
          <a:blip r:embed="rId1"/>
          <a:stretch/>
        </p:blipFill>
        <p:spPr>
          <a:xfrm>
            <a:off x="7236000" y="4797360"/>
            <a:ext cx="1736640" cy="18734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lis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every MP in the House of Comm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w up a list of issues most important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ould be on a list of famous hero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factors would you write to make a list of reasons behind the collapse of the USS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list of different ethnic background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ist.gif"/>
          <p:cNvPicPr/>
          <p:nvPr/>
        </p:nvPicPr>
        <p:blipFill>
          <a:blip r:embed="rId1"/>
          <a:stretch/>
        </p:blipFill>
        <p:spPr>
          <a:xfrm>
            <a:off x="7143840" y="4508640"/>
            <a:ext cx="183204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erform a scientific experiment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y out new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an experiment to answer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periment with the material until you find the best way to convey it to your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ould you use an experiment to prove the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experiment will tell us if CO2 emissions are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n experiment to consider the effects of introducing communism to a capitalist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millers-experiment"/>
          <p:cNvPicPr/>
          <p:nvPr/>
        </p:nvPicPr>
        <p:blipFill>
          <a:blip r:embed="rId1"/>
          <a:stretch/>
        </p:blipFill>
        <p:spPr>
          <a:xfrm>
            <a:off x="6572160" y="5167440"/>
            <a:ext cx="2333880" cy="15080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ravel through (an unfamiliar area) in order to learn about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inquire into or discuss in detai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valuate (a new option or possibil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examine or scrutinize by searching through or touch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time to explore the material prior to us discussing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 you explore your answer furt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ould a change in the cost of living affect 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plore the object and then tell us what it has to do with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rite a paragraph exploring what it might be like to live in an LE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exploreCovers08"/>
          <p:cNvPicPr/>
          <p:nvPr/>
        </p:nvPicPr>
        <p:blipFill>
          <a:blip r:embed="rId1"/>
          <a:stretch/>
        </p:blipFill>
        <p:spPr>
          <a:xfrm>
            <a:off x="7786800" y="5143680"/>
            <a:ext cx="1158840" cy="15141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vestig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a systematic or formal inquiry into (an incident or allegation) so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to establish the tru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 (a subject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make a search or systematic inquir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stigate the legitimacy of the Daily Telegraph’s clai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hoose a topic you would like to investigate as an extended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use reason or give evidence to push that analysis furth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would you find out why our school so ethnically diver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would you do to investigate the truth claims of the argu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investigate"/>
          <p:cNvPicPr/>
          <p:nvPr/>
        </p:nvPicPr>
        <p:blipFill>
          <a:blip r:embed="rId1"/>
          <a:stretch/>
        </p:blipFill>
        <p:spPr>
          <a:xfrm>
            <a:off x="7380360" y="4724280"/>
            <a:ext cx="1577880" cy="20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k questions of.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xpress doubt about; object 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to your partner’s argument and then produce a list of questions to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do we liv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ll me why this might be untr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objections do you have to this interpretation of immig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question"/>
          <p:cNvPicPr/>
          <p:nvPr/>
        </p:nvPicPr>
        <p:blipFill>
          <a:blip r:embed="rId1"/>
          <a:stretch/>
        </p:blipFill>
        <p:spPr>
          <a:xfrm>
            <a:off x="8172360" y="4869000"/>
            <a:ext cx="822240" cy="17269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arry out research int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use research to discover or verify information to be presented in (a boo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research do you need to do in order to support your assertion that the world is a cub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we verify if what a politician says is true or n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the history of the 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duce a report into the formation of the European Un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w us how to use the article in order to verify the pod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research_front"/>
          <p:cNvPicPr/>
          <p:nvPr/>
        </p:nvPicPr>
        <p:blipFill>
          <a:blip r:embed="rId1"/>
          <a:stretch/>
        </p:blipFill>
        <p:spPr>
          <a:xfrm>
            <a:off x="6877080" y="5300640"/>
            <a:ext cx="2016000" cy="1355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subject to a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verbal reasoning to test your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the theory of the trickle-down effect stand up to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ight we test whether unemployment really is ri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 like your idea, what if we lived underwater – would it still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through the different scenarios with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iginal moral position and note if it changes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plate%20with%205"/>
          <p:cNvPicPr/>
          <p:nvPr/>
        </p:nvPicPr>
        <p:blipFill>
          <a:blip r:embed="rId1"/>
          <a:srcRect l="0" t="0" r="0" b="4159"/>
          <a:stretch/>
        </p:blipFill>
        <p:spPr>
          <a:xfrm>
            <a:off x="7451640" y="5229360"/>
            <a:ext cx="1441440" cy="1353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>
            <a:hlinkClick r:id="rId2" action="ppaction://hlinksldjump"/>
          </p:cNvPr>
          <p:cNvSpPr/>
          <p:nvPr/>
        </p:nvSpPr>
        <p:spPr>
          <a:xfrm>
            <a:off x="7308720" y="285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un -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the combination of components to form a connected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214200" y="350028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mb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m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Constru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v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esig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Formul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Hypo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teg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Organ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Pl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Propo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Synthes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Synthe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Synthesis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join or mix together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do or engage in simultane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bine three of the ideas we have come up with into an argu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find a way to join the two suggestions togeth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can we combine democratic accountability with strong govern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we combine free speech and public tolerance in our societ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ub your stomach and pat your h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OMBINE3"/>
          <p:cNvPicPr/>
          <p:nvPr/>
        </p:nvPicPr>
        <p:blipFill>
          <a:blip r:embed="rId1"/>
          <a:stretch/>
        </p:blipFill>
        <p:spPr>
          <a:xfrm>
            <a:off x="6588000" y="5013360"/>
            <a:ext cx="2448000" cy="1749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(a work of art, especially music or poetry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rrange in an orderly or artistic w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ose a song advocating equal pay for under-18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ke a painting or drawing expressing your opinions regarding human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ut the key ideas from today’s lesson into a short po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arrange these objects to conv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we have been discuss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rite 16 bars that will elicit sympathy in the vie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ompose"/>
          <p:cNvPicPr/>
          <p:nvPr/>
        </p:nvPicPr>
        <p:blipFill>
          <a:blip r:embed="rId1"/>
          <a:stretch/>
        </p:blipFill>
        <p:spPr>
          <a:xfrm>
            <a:off x="6877080" y="4581360"/>
            <a:ext cx="2124000" cy="21592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uild or erect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form (a theory) from various conceptual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ke what we have talked about and build a theory of justice from 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theorise the class struggle from these sourc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struct an argument supporting your view that all oxen are laz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would you construct a defence of the government’s energy polic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can we build from what we already k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construct"/>
          <p:cNvPicPr/>
          <p:nvPr/>
        </p:nvPicPr>
        <p:blipFill>
          <a:blip r:embed="rId1"/>
          <a:stretch/>
        </p:blipFill>
        <p:spPr>
          <a:xfrm>
            <a:off x="6588000" y="494172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spond or cause to corres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word with the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tch the politician to th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match the causes with the 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oup the words into corresponding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pictures correspond to one an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tch.gif"/>
          <p:cNvPicPr/>
          <p:nvPr/>
        </p:nvPicPr>
        <p:blipFill>
          <a:blip r:embed="rId1"/>
          <a:stretch/>
        </p:blipFill>
        <p:spPr>
          <a:xfrm>
            <a:off x="7020000" y="4448160"/>
            <a:ext cx="2124000" cy="24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ring into ex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e a constitution for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create something from no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presentation ‘selling’ your idea to the rest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reate a new design for the Houses of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ink can you make between the random wor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creative-recycled-furniture-designs"/>
          <p:cNvPicPr/>
          <p:nvPr/>
        </p:nvPicPr>
        <p:blipFill>
          <a:blip r:embed="rId1"/>
          <a:stretch/>
        </p:blipFill>
        <p:spPr>
          <a:xfrm>
            <a:off x="6948360" y="4797360"/>
            <a:ext cx="2016360" cy="18925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lan or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ise a way to stop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vent a solution to global w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 timetable of implementation for the constitutional chan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solutions can you devi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your project and how you inten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come obsta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home-security-tips-2"/>
          <p:cNvPicPr/>
          <p:nvPr/>
        </p:nvPicPr>
        <p:blipFill>
          <a:blip r:embed="rId1"/>
          <a:stretch/>
        </p:blipFill>
        <p:spPr>
          <a:xfrm>
            <a:off x="6804000" y="4581360"/>
            <a:ext cx="2158920" cy="2136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conceive and produce a design for.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plan or intend for a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a road map for pe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hat would an alternative regulatory authority for the media look lik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you design a school council constitution that would take into account as many interests as possib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n you conceive of a different solution? Produce a plan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sign me a perpetual motion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design-basel-07"/>
          <p:cNvPicPr/>
          <p:nvPr/>
        </p:nvPicPr>
        <p:blipFill>
          <a:blip r:embed="rId1"/>
          <a:stretch/>
        </p:blipFill>
        <p:spPr>
          <a:xfrm>
            <a:off x="6948360" y="5013360"/>
            <a:ext cx="2016360" cy="17114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rmu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 -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reate or prepare methodicall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express (an idea) in a concise or systematic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mulate an argument in support of proportional re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at ideas can you formulate regarding where we should go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you prepare a formula for sustainable liv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your work until you can express it systemat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 going over your work until you c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uade the class as concisely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science"/>
          <p:cNvPicPr/>
          <p:nvPr/>
        </p:nvPicPr>
        <p:blipFill>
          <a:blip r:embed="rId1"/>
          <a:stretch/>
        </p:blipFill>
        <p:spPr>
          <a:xfrm>
            <a:off x="6588000" y="4724280"/>
            <a:ext cx="2448000" cy="1959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ypo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ut forward as a hypo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explain the MPs expenses scand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happen if citizenship education were made non-statut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 a hypothesis that can explain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 play showcasing a possible explana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dia panic over swine f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l us what you think will happen 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qmar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3716280"/>
            <a:ext cx="869760" cy="28796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g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2920" y="14288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combine or be combined to form a wh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would you integrate fair trade with the desire to make mon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integrate effective social policy and the free mark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these different things we have discussed and combine them into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onditions would we need in order to integrate successfully into the Eur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different cultures be integrated into a concept of ‘Britishnes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magoomla"/>
          <p:cNvPicPr/>
          <p:nvPr/>
        </p:nvPicPr>
        <p:blipFill>
          <a:blip r:embed="rId1"/>
          <a:stretch/>
        </p:blipFill>
        <p:spPr>
          <a:xfrm>
            <a:off x="712800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bine or be combined into a who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lend gradually into something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rge these ideas together in your ess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rite a speech merging these persp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these perspectives be merged? If so, h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Join together with another group and merge your role-plays togethe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merge the three arguments of team B into one concluding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merge"/>
          <p:cNvPicPr/>
          <p:nvPr/>
        </p:nvPicPr>
        <p:blipFill>
          <a:blip r:embed="rId1"/>
          <a:stretch/>
        </p:blipFill>
        <p:spPr>
          <a:xfrm>
            <a:off x="7740720" y="5445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rgan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rrange systematically; or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ganise your thoughts into a clear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organise a Middle East peace negot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organise the aims of your proje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e the issues according to which you think are most pressing for the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a system to arrange the possible solutions to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organiser_eveneme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2158920" cy="15559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ecide on and arrange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 the next stage of your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raw a plan of how you will set the experim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plan an answer to the questions you expect the opposing team to ask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plan to raise awareness about your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cide who is doing what in your group and arrange everything so you are ready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seating_plan"/>
          <p:cNvPicPr/>
          <p:nvPr/>
        </p:nvPicPr>
        <p:blipFill>
          <a:blip r:embed="rId1"/>
          <a:stretch/>
        </p:blipFill>
        <p:spPr>
          <a:xfrm>
            <a:off x="7524720" y="5300640"/>
            <a:ext cx="1492200" cy="1403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forward (an idea or plan) for consideration by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ose a change to the way the school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human rights be protected around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deas do you have for judging the effectiveness of local councillo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pose a ‘fit and proper persons’ test for 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proposals would you make for improving y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cal are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propose_w"/>
          <p:cNvPicPr/>
          <p:nvPr/>
        </p:nvPicPr>
        <p:blipFill>
          <a:blip r:embed="rId1"/>
          <a:stretch/>
        </p:blipFill>
        <p:spPr>
          <a:xfrm>
            <a:off x="7667640" y="4869000"/>
            <a:ext cx="1311120" cy="1726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m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920" y="1268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rn by 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 history of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remember these four pictures when I cover them u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ise these behaviour rules by r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 mnemonic to remember the colours of the rainb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you learn these newspaper headlines off by hea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morise.jpg"/>
          <p:cNvPicPr/>
          <p:nvPr/>
        </p:nvPicPr>
        <p:blipFill>
          <a:blip r:embed="rId1"/>
          <a:stretch/>
        </p:blipFill>
        <p:spPr>
          <a:xfrm>
            <a:off x="7236000" y="4581360"/>
            <a:ext cx="1749240" cy="2111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ynthes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2876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 by synthesi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 into a coherent wh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rite an essay plan outlining all the ideas we have 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would you explain these concepts to a Year 7 class using dra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newspaper article that makes sense of all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would a poster that explained the UN and UDHR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visualise a storyboard that comb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, civil and political rights into an intel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le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space-synthesizer"/>
          <p:cNvPicPr/>
          <p:nvPr/>
        </p:nvPicPr>
        <p:blipFill>
          <a:blip r:embed="rId1"/>
          <a:stretch/>
        </p:blipFill>
        <p:spPr>
          <a:xfrm>
            <a:off x="7093080" y="5300640"/>
            <a:ext cx="1873080" cy="1397160"/>
          </a:xfrm>
          <a:prstGeom prst="rect">
            <a:avLst/>
          </a:prstGeom>
          <a:ln w="0">
            <a:noFill/>
          </a:ln>
        </p:spPr>
      </p:pic>
      <p:sp>
        <p:nvSpPr>
          <p:cNvPr id="474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 or bring together for a common purpose or to form a wh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can we unite the concepts of justice and fairn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would a noise uniting hope and joy sound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would a painting uniting trust and pleasure look lik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ke two of the ideas regarding deregulation and weave an argument out of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urn the two statements into a story explai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ng views of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7" descr="unite-logo-782972"/>
          <p:cNvPicPr/>
          <p:nvPr/>
        </p:nvPicPr>
        <p:blipFill>
          <a:blip r:embed="rId1"/>
          <a:stretch/>
        </p:blipFill>
        <p:spPr>
          <a:xfrm>
            <a:off x="6929280" y="4199040"/>
            <a:ext cx="2079720" cy="25416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5"/>
          <p:cNvSpPr/>
          <p:nvPr/>
        </p:nvSpPr>
        <p:spPr>
          <a:xfrm>
            <a:off x="7143840" y="285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97160" y="1978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ou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– an appraisal or judgement of the value of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>
            <a:hlinkClick r:id="rId1" action="ppaction://hlinksldjump"/>
          </p:cNvPr>
          <p:cNvSpPr/>
          <p:nvPr/>
        </p:nvSpPr>
        <p:spPr>
          <a:xfrm>
            <a:off x="7643880" y="2858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85840" y="350028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Appra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Arg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ss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Crit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Exam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G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Insp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Just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Ra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91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Evalu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6491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ic Evaluation Question 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sess the quality or natur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is source to 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ould you advise me to teach this activity again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is good? Under what measure of val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d your partner’s work and then tell them three good things about it and one area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type of language is the dictator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BF627-appraise"/>
          <p:cNvPicPr/>
          <p:nvPr/>
        </p:nvPicPr>
        <p:blipFill>
          <a:blip r:embed="rId1"/>
          <a:stretch/>
        </p:blipFill>
        <p:spPr>
          <a:xfrm>
            <a:off x="7380360" y="522936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give reasons or cite evidence in support of some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can give us an argument agains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n you give us to support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n essay arguing for or against the death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ce a radio advert that gives young people a reason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an argument from your own opi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material around the ro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rgue1"/>
          <p:cNvPicPr/>
          <p:nvPr/>
        </p:nvPicPr>
        <p:blipFill>
          <a:blip r:embed="rId1"/>
          <a:stretch/>
        </p:blipFill>
        <p:spPr>
          <a:xfrm>
            <a:off x="6227640" y="4508640"/>
            <a:ext cx="2737080" cy="21812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r est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likelihood of newspapers revealing their sour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k your work and set a target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duce a report assessing the importance of freedom of information in a democratic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ces are there for the Kyoto Agreement proving a succ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we evaluate the impact of Gordon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krot9802"/>
          <p:cNvPicPr/>
          <p:nvPr/>
        </p:nvPicPr>
        <p:blipFill>
          <a:blip r:embed="rId1"/>
          <a:stretch/>
        </p:blipFill>
        <p:spPr>
          <a:xfrm>
            <a:off x="7215120" y="4857840"/>
            <a:ext cx="1835280" cy="1873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i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valuate in a detailed and analytic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tique the speech in the context of the manifes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offer us a critique of the fil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Newsnight interview-style role-play critiquing the proposed introduction of ID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rite an essay critiquing attitudes toward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critique media images of young peopl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critique_005"/>
          <p:cNvPicPr/>
          <p:nvPr/>
        </p:nvPicPr>
        <p:blipFill>
          <a:blip r:embed="rId1"/>
          <a:srcRect l="0" t="0" r="6165" b="31156"/>
          <a:stretch/>
        </p:blipFill>
        <p:spPr>
          <a:xfrm>
            <a:off x="6877080" y="4724280"/>
            <a:ext cx="2152800" cy="20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 to justif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nd your posi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magine there is no UDHR, Human Rights Act etc., how would you defend your right to freedom of speech, education etc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justify MP expenditure on duck ho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end the proposition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you defend your contention that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 is made of play d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defend"/>
          <p:cNvPicPr/>
          <p:nvPr/>
        </p:nvPicPr>
        <p:blipFill>
          <a:blip r:embed="rId1"/>
          <a:stretch/>
        </p:blipFill>
        <p:spPr>
          <a:xfrm>
            <a:off x="6924600" y="4552920"/>
            <a:ext cx="2219400" cy="23050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m an idea of the amount or value of; ass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useful is the sou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changes would you make to improve the Whit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aluate the impact of government spending on education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effective was the pres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you think peacekeeping is a good 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d thing?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evaluate"/>
          <p:cNvPicPr/>
          <p:nvPr/>
        </p:nvPicPr>
        <p:blipFill>
          <a:blip r:embed="rId1"/>
          <a:stretch/>
        </p:blipFill>
        <p:spPr>
          <a:xfrm>
            <a:off x="7020000" y="4437000"/>
            <a:ext cx="2016000" cy="2305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inspect closely to determine the nature or 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judicial system founded on principles of care or just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has power in the U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emocratic is sch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amine the source and determine its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condition is the local environment i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examine"/>
          <p:cNvPicPr/>
          <p:nvPr/>
        </p:nvPicPr>
        <p:blipFill>
          <a:blip r:embed="rId1"/>
          <a:stretch/>
        </p:blipFill>
        <p:spPr>
          <a:xfrm>
            <a:off x="7537320" y="5130720"/>
            <a:ext cx="1606680" cy="17272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a name t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ntify or mention by name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fy (a sum, time, or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ree LED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 you name all the components of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ame would you give to a course promoting active citizen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y the parts of the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name of the Prime Minis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ame.jpg"/>
          <p:cNvPicPr/>
          <p:nvPr/>
        </p:nvPicPr>
        <p:blipFill>
          <a:blip r:embed="rId1"/>
          <a:stretch/>
        </p:blipFill>
        <p:spPr>
          <a:xfrm>
            <a:off x="6659640" y="4479840"/>
            <a:ext cx="2222280" cy="2378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>
            <a:hlinkClick r:id="rId2" action="ppaction://hlinksldjump"/>
          </p:cNvPr>
          <p:cNvSpPr/>
          <p:nvPr/>
        </p:nvSpPr>
        <p:spPr>
          <a:xfrm>
            <a:off x="7380360" y="2858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range in or allocate to 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mark scheme to grade your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a mark scheme we could use to grade government behaviour in relation to democrat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ould you grade the impact of the Kyoto Protoc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policies have been effective, which not s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you grade the newspapers according to our ‘Tabloid Scandal’ sca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ms-grade"/>
          <p:cNvPicPr/>
          <p:nvPr/>
        </p:nvPicPr>
        <p:blipFill>
          <a:blip r:embed="rId1"/>
          <a:stretch/>
        </p:blipFill>
        <p:spPr>
          <a:xfrm>
            <a:off x="7020000" y="5013360"/>
            <a:ext cx="2016000" cy="17334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k at clo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really being said in this speech, ‘between the lines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key themes run through the UDH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es the language of the American constitution reflect its perceived cont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political messages and positions are underlying the perform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pect the picture for clues to its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in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an opinion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pare a list of criteria on which we should judge the presentations. Indicate priority and rat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dge the value of OFCOM to the British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your judgement regarding the c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judge which of these ideas will be of greater benefit to the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effective are ASBO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ju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ust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prove to be right or reason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you defend your position on capital punish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evidence to justify your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re to justify these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es the barrister attempt to justify the defendant’s ac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justification is there for accepting a certain level of unemployment as ‘inevitable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33justify"/>
          <p:cNvPicPr/>
          <p:nvPr/>
        </p:nvPicPr>
        <p:blipFill>
          <a:blip r:embed="rId1"/>
          <a:stretch/>
        </p:blipFill>
        <p:spPr>
          <a:xfrm>
            <a:off x="6443640" y="517212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(someone or something) a rank within a grading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nk the arguments in order of effic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ank the pictures according to the level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would you order these images to fit the grading syst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an you use the assessment criteria to put the performances in orde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ce the policy suggestions according to what extent they solve the problem we highl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rank_7"/>
          <p:cNvPicPr/>
          <p:nvPr/>
        </p:nvPicPr>
        <p:blipFill>
          <a:blip r:embed="rId1"/>
          <a:stretch/>
        </p:blipFill>
        <p:spPr>
          <a:xfrm>
            <a:off x="7559640" y="5273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a standard or value to (something) according to a particular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 a scale which could be used to rate the effectiveness of council 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would you rate your performance in the assess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e these crimes in order of severity (by a scale, or implicitly through personal morality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ate the proposals based on our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do the sustainable development plans rate in relation to the requirements of Local Agenda 2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Thumbs_Dow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37440" y="5880240"/>
            <a:ext cx="1006560" cy="977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Thumbs_Do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9440" y="3573360"/>
            <a:ext cx="1114560" cy="1190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Thumbs_Dow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12240" y="4797360"/>
            <a:ext cx="1031760" cy="1069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out or write a review of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iew or inspect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ew your work and make the changes that will take it to the next gr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duce a literature revi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a synopsis of the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at conclusions about the document have you come 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are your findings having reviewed the fil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red"/>
          <p:cNvPicPr/>
          <p:nvPr/>
        </p:nvPicPr>
        <p:blipFill>
          <a:blip r:embed="rId1"/>
          <a:stretch/>
        </p:blipFill>
        <p:spPr>
          <a:xfrm>
            <a:off x="7020000" y="472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b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 or determine the value of; assign a value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value of free trade to developing countr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n you determine the value of the criminal’s behaviou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effect has government policy had on unemplo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 was this a valuable learning experie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value would you assign to tolerance in a democrac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3"/>
          <p:cNvSpPr/>
          <p:nvPr/>
        </p:nvSpPr>
        <p:spPr>
          <a:xfrm>
            <a:off x="285840" y="214200"/>
            <a:ext cx="857160" cy="8575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Value%20Quotes"/>
          <p:cNvPicPr/>
          <p:nvPr/>
        </p:nvPicPr>
        <p:blipFill>
          <a:blip r:embed="rId1"/>
          <a:stretch/>
        </p:blipFill>
        <p:spPr>
          <a:xfrm>
            <a:off x="6804000" y="4581360"/>
            <a:ext cx="2143080" cy="21369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7286760" y="428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250920" y="1025640"/>
          <a:ext cx="8893080" cy="5832360"/>
        </p:xfrm>
        <a:graphic>
          <a:graphicData uri="http://schemas.openxmlformats.org/drawingml/2006/table">
            <a:tbl>
              <a:tblPr/>
              <a:tblGrid>
                <a:gridCol w="2435040"/>
                <a:gridCol w="1992240"/>
                <a:gridCol w="1928880"/>
                <a:gridCol w="2536920"/>
              </a:tblGrid>
              <a:tr h="426960">
                <a:tc>
                  <a:txBody>
                    <a:bodyPr lIns="45720" rIns="45720" tIns="2268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5400"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e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 bibl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galle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pri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Cover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hur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etin bo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 or board gam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g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with narrativ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c Stri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pro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word puzzle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illustr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matic monologu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Lo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y ta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tre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s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desig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ting car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ed stor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ed diagra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to the edito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drawing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 artic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 with legend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culpture Monograp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22680" bIns="2268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exhibi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al composi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 repor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phle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 with instructions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essa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dictionary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cast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em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file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Point Presentation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 List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18">
            <a:hlinkClick r:id="rId1" action="ppaction://hlinksldjump"/>
          </p:cNvPr>
          <p:cNvSpPr/>
          <p:nvPr/>
        </p:nvSpPr>
        <p:spPr>
          <a:xfrm>
            <a:off x="7885080" y="609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th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187280" y="645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xample Product list taken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s1.mcm.edu/~awyatt/csc3315/bloom.htm</a:t>
            </a:r>
            <a:r>
              <a:rPr b="0" lang="en-US" sz="1800" spc="-1" strike="noStrike">
                <a:solidFill>
                  <a:srgbClr val="558ed5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9" descr="title-products"/>
          <p:cNvPicPr/>
          <p:nvPr/>
        </p:nvPicPr>
        <p:blipFill>
          <a:blip r:embed="rId3"/>
          <a:srcRect l="0" t="0" r="0" b="8539"/>
          <a:stretch/>
        </p:blipFill>
        <p:spPr>
          <a:xfrm>
            <a:off x="6696000" y="115920"/>
            <a:ext cx="2448000" cy="1336680"/>
          </a:xfrm>
          <a:prstGeom prst="rect">
            <a:avLst/>
          </a:prstGeom>
          <a:ln w="0">
            <a:noFill/>
          </a:ln>
        </p:spPr>
      </p:pic>
      <p:sp>
        <p:nvSpPr>
          <p:cNvPr id="568" name="WordArt 70"/>
          <p:cNvSpPr txBox="1"/>
          <p:nvPr/>
        </p:nvSpPr>
        <p:spPr>
          <a:xfrm>
            <a:off x="179280" y="115920"/>
            <a:ext cx="61912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amples of less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duct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50920" y="692280"/>
            <a:ext cx="87138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eneric Knowledg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list of the main events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timeline of event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facts char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list of any pieces of information you can remember.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the .... in the 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 chart showing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an acrostic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e a po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6165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teachers.ash.org.au/researchskills/Dalto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5764" t="0" r="7091" b="0"/>
          <a:stretch/>
        </p:blipFill>
        <p:spPr>
          <a:xfrm>
            <a:off x="6443640" y="260280"/>
            <a:ext cx="25178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7093080" y="4581360"/>
            <a:ext cx="1511280" cy="857520"/>
            <a:chOff x="7093080" y="4581360"/>
            <a:chExt cx="1511280" cy="857520"/>
          </a:xfrm>
        </p:grpSpPr>
        <p:sp>
          <p:nvSpPr>
            <p:cNvPr id="573" name="Oval 3">
              <a:hlinkClick r:id="rId3" action="ppaction://hlinksldjump"/>
            </p:cNvPr>
            <p:cNvSpPr/>
            <p:nvPr/>
          </p:nvSpPr>
          <p:spPr>
            <a:xfrm>
              <a:off x="7380360" y="4581360"/>
              <a:ext cx="928440" cy="85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93080" y="4653000"/>
              <a:ext cx="1511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4:34Z</dcterms:created>
  <dc:creator>Mike Gershon</dc:creator>
  <dc:description/>
  <dc:language>en-US</dc:language>
  <cp:lastModifiedBy>Shore</cp:lastModifiedBy>
  <dcterms:modified xsi:type="dcterms:W3CDTF">2009-08-25T03:28:35Z</dcterms:modified>
  <cp:revision>75</cp:revision>
  <dc:subject/>
  <dc:title>Knowledge</dc:title>
</cp:coreProperties>
</file>